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794-882F-4606-B83E-3749ED79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BF1-816B-4AAD-A444-60F81BC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611-3DF8-4807-9C06-7ADD3F2D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921-AE6B-44E8-8252-DC89A3B4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CBE-BD92-4466-89D7-F79A847A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6303-AA4F-44C6-8387-C3A22DF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9C76-B305-4603-8AAF-E04C99B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A8A-0A58-490F-88D1-B581057C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CDD-B279-4BA9-97F8-68F6901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B35-3DA2-4179-BCB8-2D9A02C5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C3A-4F90-4135-B7D5-8116350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71F-7DCB-4FF5-A1FA-2B04E71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A18-70D7-4477-AB7A-75C5EBC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85A-9E79-4DAE-A05B-66B5C79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00E9-2D4D-40FE-AE64-006C554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F854-4B13-4029-81E4-A8AF4B38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4EC-90C5-438D-99EC-302DCFCC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242-9215-4F2C-82A0-A7AAC00F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EAC-EE1A-42E5-BBEA-3FB5C07C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495-DF96-4F81-B50C-B77FCFC8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428-D176-4D88-9628-90390F57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0CA-DB4E-40D3-B1DA-29EA428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4B4-DC42-4B11-84C4-6410702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95C-3A35-48D6-B31A-016FFAC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A20-3750-4D81-BD88-6302B5D06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14C-D6FE-4250-A844-7FE61A031D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commodating Differences in Literacy Learners: Part I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ry A. Troia, Ph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higan State Univers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80880" y="457200"/>
          <a:ext cx="8305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457200" y="380880"/>
          <a:ext cx="81532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80880" y="457200"/>
          <a:ext cx="8305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380880"/>
          <a:ext cx="822960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380880"/>
          <a:ext cx="82296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0880" y="380880"/>
          <a:ext cx="83059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059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80880" y="380880"/>
          <a:ext cx="838224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82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al Methods &amp; Arrangem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ster lower-level skills before higher-level skills are tau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k analyses are performed to sequence learning objectives to be mastered from least to most difficu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lls with high utility are taught before those that are less 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ly confusing details (e.g., b/d) are not introduced in close temporal o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ization is programmed through the use of novel exemplars during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ht control over stimuli and materials is maintain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s are introduced only after mastery has been achiev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reliance on incidental lea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s often are u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ment and mastery tests are used to monitor student progr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ing, guided practice with explicit feedback and prompts/cues, and many opportunities for independent practice are u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s and rules are verbalized repetitive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al, reductionist/positivist teaching paradig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perative Learning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5 students work together in a heterogeneous group to master instructional cont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er serves as facilitator/mediator who ensures th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students actively particip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ions of all members are valid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perative behavior is frequently and explicitly modeled, reviewed, and reinforc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participation, can limit access to only one set of materials, randomly select one student's project for group grade, or limit contributions through token cos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th disabilities may not contribute nor benefit as much as other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ted materials and more intensive instructional support may be necessary for students with disabi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a number of different formats for cooperative grou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gsa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part 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k-pair-sh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teams-achievement divisions (STA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s-games-tournaments (TG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-Mediated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pair to form a tutor/tutee relationship to learn content, skills, or strateg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tor should be only somewhat more competent than tutee so that both benefit from experi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members of dyad should have the opportunity to act as tu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tudents must be oriented to purposes, responsibilities, guidelines, materials, and tactics for explanations, reinforcement, and error correction; initially there is much preparatory work for the teac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on task is maximized because teacher does not need to be pres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can be individualized with ongoing teacher monitoring and sup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should be provided opportunities to reflect on tutoring experiences and give feedback to the teac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ats are poss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-age or cross-age peer tu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iprocal peer tu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-Wide Peer Tutoring (CWP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r-Assisted Learning Strategies (PAL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Teach A Les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Consid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and adjust instructional langu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gment verbal information through the use of key phrases, paralinguistic and extralinguistic cues, and graphic cu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oid overuse of initiation-response-evaluation (IRE) cycle that serves to assess performance rather than teac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student comprehension by asking students to repeat, rephrase, or summarize the information giv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academic learning time because it correlates highly with student achieve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student progre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ote motivation b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ing choices for tasks, problems, and materia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lcoming student input regarding learning goals, objectives, and activit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ing personal relevancy of activities by integrating student interest and experience in authentic learning task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effective behavior management techniques such as academic contracting and positive reinforc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difficulty of content and skills; perform task analyses to ensure that prerequisite skills are evident or taugh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 students academic survival strategies such 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ten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tak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udy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tak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 strate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457200"/>
          <a:ext cx="83822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533520"/>
          <a:ext cx="82296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2296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04920" y="380880"/>
          <a:ext cx="853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3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380880"/>
          <a:ext cx="85341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341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46:37Z</dcterms:created>
  <dc:creator>College of Education</dc:creator>
  <dc:description/>
  <dc:language>en-US</dc:language>
  <cp:lastModifiedBy>College of Education</cp:lastModifiedBy>
  <dcterms:modified xsi:type="dcterms:W3CDTF">2006-11-28T02:20:06Z</dcterms:modified>
  <cp:revision>3</cp:revision>
  <dc:subject/>
  <dc:title>Slide 1</dc:title>
</cp:coreProperties>
</file>